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527-1C18-4D32-A04A-533F3437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7EB-F901-4E1C-A3F6-664FEB95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C39-4187-43A6-9112-432D6075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6B3-7F3F-4FC9-84FF-D52F887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8F2-BC29-411A-861B-81851385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89F-B77D-46A2-8891-1CC1540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C5F-4C3B-487E-ADF2-E1C1567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C82-8E8A-4FC6-8D36-CB22F05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983-A767-46BD-9923-C53F2D4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4CA-6C5B-43B4-BCC0-8CFE1DD1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018-17DA-4916-AC72-4220F23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BD3-1327-470E-BDC5-3F7DA73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D112-4229-4932-A34B-8FC8E11F7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0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02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02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02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02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02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02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02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0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0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0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0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02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02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02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1:16:25Z</dcterms:created>
  <dc:creator>iñigo</dc:creator>
  <dc:description/>
  <dc:language>en-US</dc:language>
  <cp:lastModifiedBy>iñigo</cp:lastModifiedBy>
  <dcterms:modified xsi:type="dcterms:W3CDTF">2001-04-23T11:16:37Z</dcterms:modified>
  <cp:revision>1</cp:revision>
  <dc:subject/>
  <dc:title>Presentación de PowerPoint</dc:title>
</cp:coreProperties>
</file>